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74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574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339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3"/>
          </p:nvPr>
        </p:nvSpPr>
        <p:spPr>
          <a:xfrm>
            <a:off x="-360" y="8832960"/>
            <a:ext cx="2957400" cy="44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4"/>
          </p:nvPr>
        </p:nvSpPr>
        <p:spPr>
          <a:xfrm>
            <a:off x="3885840" y="8832960"/>
            <a:ext cx="2957400" cy="44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1626F-DF18-41BF-8356-695C4C9FF5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0484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04840" y="69840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04840" y="698400"/>
            <a:ext cx="464040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613E-A51A-4EA1-8EEF-C540750AD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638820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4360" y="3187080"/>
            <a:ext cx="638820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4A0A-AA32-4F13-9DBB-6A0AE2DF8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311724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7840" y="1447560"/>
            <a:ext cx="311724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4360" y="3187080"/>
            <a:ext cx="311724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7840" y="3187080"/>
            <a:ext cx="311724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B382-F442-4709-95C7-3232DC5F2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205668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4360" y="1447560"/>
            <a:ext cx="205668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05668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4360" y="3187080"/>
            <a:ext cx="205668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4360" y="3187080"/>
            <a:ext cx="205668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000" y="3187080"/>
            <a:ext cx="205668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98D5-E740-453A-A332-B509537FA5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4360" y="1447560"/>
            <a:ext cx="6388200" cy="33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01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4C5FD-9581-4203-9A55-61DDE87CFF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638820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43A7-4A7B-4948-A042-0256E2275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311724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7840" y="1447560"/>
            <a:ext cx="311724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8BF72-85B2-4205-B993-46E257265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84E8-0340-4833-81FB-513002FB4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4360" y="379080"/>
            <a:ext cx="6388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013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16D1-BED5-4DF1-833F-0534725D3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311724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7840" y="1447560"/>
            <a:ext cx="311724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4360" y="3187080"/>
            <a:ext cx="311724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2E34-A959-4D20-9CC7-2A647D406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311724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7840" y="1447560"/>
            <a:ext cx="311724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7840" y="3187080"/>
            <a:ext cx="311724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6BD21-729B-4C78-8CA5-87513F008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311724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7840" y="1447560"/>
            <a:ext cx="311724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4360" y="3187080"/>
            <a:ext cx="6388200" cy="15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4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1A3E-0FEE-4404-8A08-8BEB17DDD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74360" y="1447560"/>
            <a:ext cx="638820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7600" indent="-14760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5048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4040" indent="-13032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66760" indent="-14760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96880" indent="-12528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96880" indent="-12528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96880" indent="-125280">
              <a:lnSpc>
                <a:spcPct val="54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29240" y="5803920"/>
            <a:ext cx="6714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US" sz="2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DE50C-A154-4F8E-A3A7-FA09B56EB346}" type="slidenum"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79132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91840"/>
            <a:ext cx="77724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Dynamique de l'épidémie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(la Rougeole à l'Unil-EPFL)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95520" y="3600360"/>
            <a:ext cx="6864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erviseu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cha Her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udian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uno Pais &amp; Didier Langue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avril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5734080"/>
            <a:ext cx="1584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E8FE-3AD6-41E1-9535-DD938F2CAD4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>
                <a:solidFill>
                  <a:srgbClr val="cc0000"/>
                </a:solidFill>
                <a:latin typeface="Comic Sans MS"/>
              </a:rPr>
              <a:t>Le modèle amélioré</a:t>
            </a:r>
            <a:endParaRPr b="0" lang="en-US" sz="3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12800" y="4199040"/>
            <a:ext cx="645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79640" y="1438200"/>
            <a:ext cx="5761080" cy="1081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419640" y="1800360"/>
            <a:ext cx="539640" cy="360360"/>
          </a:xfrm>
          <a:prstGeom prst="rightArrow">
            <a:avLst>
              <a:gd name="adj1" fmla="val 50000"/>
              <a:gd name="adj2" fmla="val 37438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80000" y="1800360"/>
            <a:ext cx="539640" cy="360360"/>
          </a:xfrm>
          <a:prstGeom prst="rightArrow">
            <a:avLst>
              <a:gd name="adj1" fmla="val 50000"/>
              <a:gd name="adj2" fmla="val 37438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519280" y="1979280"/>
            <a:ext cx="4500720" cy="720720"/>
          </a:xfrm>
          <a:custGeom>
            <a:avLst/>
            <a:gdLst>
              <a:gd name="textAreaLeft" fmla="*/ 0 w 4500720"/>
              <a:gd name="textAreaRight" fmla="*/ 4501080 w 4500720"/>
              <a:gd name="textAreaTop" fmla="*/ 360 h 720720"/>
              <a:gd name="textAreaBottom" fmla="*/ 721440 h 720720"/>
            </a:gdLst>
            <a:ahLst/>
            <a:rect l="textAreaLeft" t="textAreaTop" r="textAreaRight" b="textAreaBottom"/>
            <a:pathLst>
              <a:path w="21600" h="21600">
                <a:moveTo>
                  <a:pt x="5486" y="16904"/>
                </a:moveTo>
                <a:arcTo wR="-8093" hR="-8093" stAng="7862440" swAng="-5797031"/>
                <a:lnTo>
                  <a:pt x="1891" y="4695"/>
                </a:lnTo>
                <a:arcTo wR="10800" hR="10800" stAng="-8734591" swAng="5797031"/>
                <a:lnTo>
                  <a:pt x="19664" y="618"/>
                </a:lnTo>
                <a:lnTo>
                  <a:pt x="14113" y="6732"/>
                </a:lnTo>
                <a:lnTo>
                  <a:pt x="14341" y="673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125960" y="2773440"/>
                <a:ext cx="73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734080" y="1800360"/>
                <a:ext cx="206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00360" y="1800360"/>
                <a:ext cx="1796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595600" y="2806560"/>
            <a:ext cx="47847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= taux de vaccinés durant la campag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667400" y="2340000"/>
                <a:ext cx="1936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12800" y="3419640"/>
            <a:ext cx="6667560" cy="1319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13160" y="4017960"/>
            <a:ext cx="720720" cy="36036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53160" y="4017960"/>
            <a:ext cx="720720" cy="36036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592440" y="3735360"/>
                <a:ext cx="314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978520" y="3735360"/>
                <a:ext cx="314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2766960" y="4557600"/>
            <a:ext cx="4784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1= flux d'élèves entre de Dorigny et Sor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2= flux d'élèves entre EPFL et Sor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00320" y="1800360"/>
                <a:ext cx="3189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300320" y="3780000"/>
                <a:ext cx="3283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>
                <a:solidFill>
                  <a:srgbClr val="cc0000"/>
                </a:solidFill>
                <a:latin typeface="Comic Sans MS"/>
              </a:rPr>
              <a:t>Le modèle amélioré</a:t>
            </a:r>
            <a:endParaRPr b="0" lang="en-US" sz="3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4720" y="1079640"/>
            <a:ext cx="63946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7600" indent="-147600"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me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3560" indent="-150480">
              <a:lnSpc>
                <a:spcPct val="66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3560" indent="-150480">
              <a:lnSpc>
                <a:spcPct val="66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1. d'évaluer 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4040" indent="-130320">
              <a:lnSpc>
                <a:spcPct val="66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4040" indent="-130320">
              <a:lnSpc>
                <a:spcPct val="66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- les risques encou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4040" indent="-130320">
              <a:lnSpc>
                <a:spcPct val="66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- efficacité de la campagne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66760" indent="-147600">
              <a:lnSpc>
                <a:spcPct val="66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vaccination à l'Unil-EP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3560" indent="-150480"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3560" indent="-150480"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2. d'apprécier l’importance du taux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4040" indent="-130320">
              <a:lnSpc>
                <a:spcPct val="66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vaccination contre l'épidémie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4040" indent="-130320">
              <a:lnSpc>
                <a:spcPct val="66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Rouge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4040" indent="-130320">
              <a:lnSpc>
                <a:spcPct val="66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3560" indent="-150480">
              <a:lnSpc>
                <a:spcPct val="66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3. d'obtenir une simulation plus adapté 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4040" indent="-130320">
              <a:lnSpc>
                <a:spcPct val="66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notre cas d'é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>
                <a:solidFill>
                  <a:srgbClr val="cc0000"/>
                </a:solidFill>
                <a:latin typeface="Comic Sans MS"/>
              </a:rPr>
              <a:t>Difficultés</a:t>
            </a:r>
            <a:endParaRPr b="0" lang="en-US" sz="3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4360" y="1447920"/>
            <a:ext cx="639468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dification du modèle po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-14760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action et déplacement des personnes  dans l'e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-14760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imation correct des para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-14760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ériode d’incub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5734080"/>
            <a:ext cx="151308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700" spc="-1" strike="noStrike">
                <a:solidFill>
                  <a:srgbClr val="cc0000"/>
                </a:solidFill>
                <a:latin typeface="Comic Sans MS"/>
              </a:rPr>
              <a:t>Calendrier</a:t>
            </a:r>
            <a:endParaRPr b="0" lang="en-US" sz="37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619280" y="1916280"/>
          <a:ext cx="6388200" cy="3497040"/>
        </p:xfrm>
        <a:graphic>
          <a:graphicData uri="http://schemas.openxmlformats.org/drawingml/2006/table">
            <a:tbl>
              <a:tblPr/>
              <a:tblGrid>
                <a:gridCol w="3194280"/>
                <a:gridCol w="31939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Séance présent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Réalisation modèle simp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Manquée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Réalisation modèle simp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Théorie et Matla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Perfectionnement du modè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Théorie et Matla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Perfectionnement du  modè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Exercices systèmes dynamiqu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Perfectionnement du modè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Exercices et proj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Réalisation de la présent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</a:t>
                      </a:r>
                      <a:r>
                        <a:rPr b="0" lang="fr-CH" sz="3200" spc="-1" strike="noStrike">
                          <a:solidFill>
                            <a:srgbClr val="f63622"/>
                          </a:solidFill>
                          <a:latin typeface="Times New Roman"/>
                        </a:rPr>
                        <a:t>Présent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CH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 </a:t>
                      </a:r>
                      <a:r>
                        <a:rPr b="0" lang="fr-CH" sz="3200" spc="-1" strike="noStrike">
                          <a:solidFill>
                            <a:srgbClr val="f63622"/>
                          </a:solidFill>
                          <a:latin typeface="Times New Roman"/>
                        </a:rPr>
                        <a:t>Présent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684360" y="5734080"/>
            <a:ext cx="165564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1341360"/>
            <a:ext cx="37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emaine n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>
                <a:solidFill>
                  <a:srgbClr val="cc0000"/>
                </a:solidFill>
                <a:latin typeface="Comic Sans MS"/>
              </a:rPr>
              <a:t>Feedback</a:t>
            </a:r>
            <a:endParaRPr b="0" lang="en-US" sz="3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5734080"/>
            <a:ext cx="165564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4720" y="1447920"/>
            <a:ext cx="639468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7600" indent="-147600"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ggestions pour améliorer le cou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 pas être oublier par Sven Bergmann 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71000"/>
              </a:lnSpc>
              <a:spcBef>
                <a:spcPts val="499"/>
              </a:spcBef>
              <a:tabLst>
                <a:tab algn="l" pos="0"/>
                <a:tab algn="l" pos="147600"/>
                <a:tab algn="l" pos="595440"/>
                <a:tab algn="l" pos="1044720"/>
                <a:tab algn="l" pos="1494000"/>
                <a:tab algn="l" pos="1943280"/>
                <a:tab algn="l" pos="2392200"/>
                <a:tab algn="l" pos="2841480"/>
                <a:tab algn="l" pos="3290760"/>
                <a:tab algn="l" pos="3740040"/>
                <a:tab algn="l" pos="4189320"/>
                <a:tab algn="l" pos="4638600"/>
                <a:tab algn="l" pos="5087880"/>
                <a:tab algn="l" pos="5537160"/>
                <a:tab algn="l" pos="5986440"/>
                <a:tab algn="l" pos="6435720"/>
                <a:tab algn="l" pos="6885000"/>
                <a:tab algn="l" pos="7334280"/>
                <a:tab algn="l" pos="7783560"/>
                <a:tab algn="l" pos="8232840"/>
                <a:tab algn="l" pos="8682120"/>
                <a:tab algn="l" pos="9131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67280" y="456840"/>
            <a:ext cx="23623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Objectif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0000" y="1503000"/>
            <a:ext cx="720072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20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udier le modèle simple 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20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20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quer et Interprèter le modèle SIR sur un cas concret et actue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20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20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Epidémie de la Rougeole à l'Unil-EPFL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20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20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apter ce modèle à notre cas particulier afin d'évaluer 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es risques encou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buNone/>
              <a:tabLst>
                <a:tab algn="l" pos="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20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efficacité de la campagne d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vacc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1440" y="1371600"/>
            <a:ext cx="5721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03200" y="160020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237492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5734080"/>
            <a:ext cx="172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3995640"/>
            <a:ext cx="144720" cy="144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D8AF-E35E-4B53-A164-A38FA50E5C7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>
                <a:solidFill>
                  <a:srgbClr val="cc0000"/>
                </a:solidFill>
                <a:latin typeface="Comic Sans MS"/>
              </a:rPr>
              <a:t>Le modèle simple SIR</a:t>
            </a:r>
            <a:endParaRPr b="0" lang="en-US" sz="3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4360" y="1460160"/>
            <a:ext cx="6394680" cy="33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système dynam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-14760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(t): nombre de personnes saines susceptibles de contracter la malad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-14760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(t): nombres de personnes infecté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-147600">
              <a:lnSpc>
                <a:spcPct val="7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(t): nombre de personnes immunisée ou décédé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5734080"/>
            <a:ext cx="136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>
                <a:solidFill>
                  <a:srgbClr val="cc0000"/>
                </a:solidFill>
                <a:latin typeface="Comic Sans MS"/>
              </a:rPr>
              <a:t>Le modèle simple SIR</a:t>
            </a:r>
            <a:endParaRPr b="0" lang="en-US" sz="3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440" y="5759280"/>
            <a:ext cx="1511280" cy="7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60360" y="270036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 système dynam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2700360"/>
            <a:ext cx="37800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s paramèt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 : indice de virul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vitesse de transmis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: indice de guéri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79640" y="1438200"/>
            <a:ext cx="5761080" cy="1081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419640" y="1800360"/>
            <a:ext cx="539640" cy="360360"/>
          </a:xfrm>
          <a:prstGeom prst="rightArrow">
            <a:avLst>
              <a:gd name="adj1" fmla="val 50000"/>
              <a:gd name="adj2" fmla="val 37438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1800360"/>
            <a:ext cx="539640" cy="360360"/>
          </a:xfrm>
          <a:prstGeom prst="rightArrow">
            <a:avLst>
              <a:gd name="adj1" fmla="val 50000"/>
              <a:gd name="adj2" fmla="val 37438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414440" y="3394080"/>
                <a:ext cx="28321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∗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∗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465200" y="3998880"/>
                <a:ext cx="37022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∗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∗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440000" y="4503600"/>
                <a:ext cx="190980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260360" y="3419640"/>
            <a:ext cx="181080" cy="1439640"/>
          </a:xfrm>
          <a:custGeom>
            <a:avLst/>
            <a:gdLst>
              <a:gd name="textAreaLeft" fmla="*/ 115920 w 181080"/>
              <a:gd name="textAreaRight" fmla="*/ 181440 w 1810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>
                <a:solidFill>
                  <a:srgbClr val="cc0000"/>
                </a:solidFill>
                <a:latin typeface="Comic Sans MS"/>
              </a:rPr>
              <a:t>Intérêts du modèle SIR</a:t>
            </a:r>
            <a:endParaRPr b="0" lang="en-US" sz="3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4360" y="1079640"/>
            <a:ext cx="639468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met 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de simuler graphiquemen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9688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a propagation d’une maladie au    sein d’un espace c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9688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son é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9688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d'évaluer 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9688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es risques d'épidé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9688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sa du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9688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son pic d'a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9100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60360" y="1476360"/>
            <a:ext cx="14616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5734080"/>
            <a:ext cx="1800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4360" y="557280"/>
            <a:ext cx="63946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800" spc="-1" strike="noStrike">
                <a:solidFill>
                  <a:srgbClr val="cc0000"/>
                </a:solidFill>
                <a:latin typeface="Comic Sans MS"/>
              </a:rPr>
              <a:t>Dynamique de la population selon SIR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6394680" cy="33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760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734080"/>
            <a:ext cx="158436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573520" cy="4322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19280" y="6021360"/>
            <a:ext cx="67690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S(0)=99, I(0)=1, R(0)=0 avec r = 0.01 et a =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1844640"/>
            <a:ext cx="1619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r/a &gt;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épidé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01080" y="249228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f6362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800" spc="-1" strike="noStrike">
                <a:solidFill>
                  <a:srgbClr val="cc0000"/>
                </a:solidFill>
                <a:latin typeface="Comic Sans MS"/>
              </a:rPr>
              <a:t>Dynamique du système selon SIR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5904000" cy="4273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55640" y="5734080"/>
            <a:ext cx="151272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08720" y="1628640"/>
            <a:ext cx="144000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CH" sz="2800" spc="-1" strike="noStrike">
                <a:solidFill>
                  <a:srgbClr val="f63622"/>
                </a:solidFill>
                <a:latin typeface="Comic Sans MS"/>
              </a:rPr>
              <a:t>r&gt;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CH" sz="2800" spc="-1" strike="noStrike">
                <a:solidFill>
                  <a:srgbClr val="00ff00"/>
                </a:solidFill>
                <a:latin typeface="Comic Sans MS"/>
              </a:rPr>
              <a:t>r=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CH" sz="2800" spc="-1" strike="noStrike">
                <a:solidFill>
                  <a:srgbClr val="3333cc"/>
                </a:solidFill>
                <a:latin typeface="Comic Sans MS"/>
              </a:rPr>
              <a:t>r&lt;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5950080"/>
            <a:ext cx="576108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La fonction telle que r = a détermine le seuil limite de propagation de la mala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8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800" spc="-1" strike="noStrike">
                <a:solidFill>
                  <a:srgbClr val="cc0000"/>
                </a:solidFill>
                <a:latin typeface="Comic Sans MS"/>
              </a:rPr>
              <a:t>Dynamique de la population selon SIR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5832720" cy="4033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4360" y="5734080"/>
            <a:ext cx="187164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844640"/>
            <a:ext cx="144144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r/a &lt;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épidé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85080" y="256536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f6362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6021360"/>
            <a:ext cx="712944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S(0)=99, I(0)=1, R(0)=0 avec r = 0.02 et a = 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4360" y="379080"/>
            <a:ext cx="63946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>
                <a:solidFill>
                  <a:srgbClr val="cc0000"/>
                </a:solidFill>
                <a:latin typeface="Comic Sans MS"/>
              </a:rPr>
              <a:t>Le modèle simple SIR</a:t>
            </a:r>
            <a:endParaRPr b="0" lang="en-US" sz="3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4360" y="1447560"/>
            <a:ext cx="639468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98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itions d’applications du modè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98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98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La population totale const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98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98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Probabilité d’être infecté égale pour tout le mon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98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98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Période d'incubation nu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98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71000"/>
              </a:lnSpc>
              <a:spcBef>
                <a:spcPts val="499"/>
              </a:spcBef>
              <a:buNone/>
              <a:tabLst>
                <a:tab algn="l" pos="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98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Le modèle ne distinguent pas les personnes immunisées ou mortes par la maladie (même eff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57340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dier Languetin</cp:lastModifiedBy>
  <dcterms:modified xsi:type="dcterms:W3CDTF">2009-04-22T19:27:40Z</dcterms:modified>
  <cp:revision>9</cp:revision>
  <dc:subject/>
  <dc:title>Présentation PowerPoint</dc:title>
</cp:coreProperties>
</file>